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E55-99CF-449F-8A7D-2E8B8D12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AC3-EA8C-425A-8EA8-DCEF7D4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49B-5EC8-40A8-A890-375A0745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868-A6C0-43A9-9D02-3C381AE1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2A4-FD96-4834-A887-0CA3B582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0D36-8AC1-468A-B11D-8AFE275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E02D-D72C-48E7-AC03-2550570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6DC-BB3F-4A9F-A7C4-D5EA9854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56F-CC1E-4A70-BC76-82D0FC5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E6C4-D3C9-45AF-B46A-FD10717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DDC-2968-41C5-83A6-2C47069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800-464A-44ED-8C3E-7F02AECE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53A-FEB4-4416-8F79-C887BC6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4723-52ED-45CF-8B89-758AF56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932A-3C28-4D9A-BF9A-DAFDFF84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78F-710A-4C73-B0EB-F27D9924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E559-A012-44F5-B5CD-A0ABE63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E7C-D854-4816-963C-6BA5C4F4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188-9EEE-495F-8C60-54CCA37E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1BD-2A61-40D7-A7AE-491F8241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045-3B6E-4915-850A-07927D07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B46-0076-4D38-A923-580A6A3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C4F-75B4-4F66-8317-C6145DF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5F8-C31A-423A-89CF-413B1EC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0BD-5F05-4F87-9927-4C48DB8317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634-6614-4C0C-9757-119737014A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isicoquimico.wikispaces.com/" TargetMode="External"/><Relationship Id="rId2" Type="http://schemas.openxmlformats.org/officeDocument/2006/relationships/hyperlink" Target="http://matematicaemfoco.wikispaces.com/" TargetMode="External"/><Relationship Id="rId3" Type="http://schemas.openxmlformats.org/officeDocument/2006/relationships/hyperlink" Target="http://biologiaevida.wikispaces.com/" TargetMode="External"/><Relationship Id="rId4" Type="http://schemas.openxmlformats.org/officeDocument/2006/relationships/hyperlink" Target="http://nossahistoria.wikispaces.com/" TargetMode="External"/><Relationship Id="rId5" Type="http://schemas.openxmlformats.org/officeDocument/2006/relationships/hyperlink" Target="http://willianedufisica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ENCONTRO DE PSTE - 2009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E. E. Austrílio Capilé Castr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Nova Andradina - M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5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spaces: Assistência para manutenção da págin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laboração de um plano de ensino no wik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Valér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ova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 resultados obtidos com a aplicação do curso ATAC I superaram o esperado. Todos os professores que participaram do curso possuem agora uma página na internet e contam com os recursos aprendidos para a implementação de suas práticas pedagógica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QUI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ANTÔNIO JOAQUIM DE MOURA ANDR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Euzébio de Souza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sele Maria Gomes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AUSTRÍLIO CAPILÉ CAS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Valéria dos Santos Pereir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sele Maria Gomes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MARECHAL ROND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ovana Ferreira de Almeid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ábio José de Araújo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na Patrícia Toledo Picolo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 PADRE ANCHIE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Sônia Aparecida de Araújo Pereir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ichele Fernanda Picolo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KI dos participantes do proje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laudemir Giacon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fisicoquimico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Juliana Bomfim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matematicaemfoco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aniela Silva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biologiaevida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João Lazarini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nossahistoria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Willian Moraes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illianedufisica.wikispaces.com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SO ATAC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rojeto elaborado pelos professores das Salas de Tecnologias Educacionais das Escolas Estaduais: Antônio Joaquim de Moura Andrade, Austrílio Capilé Castro, Marechal Rondon e Padre Anchieta d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va Andradina, como cumprimento do cronograma do Plano de Ação - 2009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AC: AMBIENTES TECNOLÓGICOS DE APRENDIZAGEM COLABORATIV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Área de Concentr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Aplicativos do Windows e ambientes Web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Responsáveis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Professores das Salas de Tecnologias Educacionais das Escolas Estaduais Antônio Joaquim de Moura Andrade, Austrílio Capilé Castro, Marechal Rondon e Padre Anchieta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Local de Realiz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Sala de cursos do Núcleo de Tecnologias Educacionais de Nova Andradin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Período de Realiz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11 a 15 de maio de 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Público Alv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Profissionais das Escolas Estaduais Antônio Joaquim de Moura Andrade, Austrílio Capilé Castro, Marechal Rondon e Padre Anchie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ferecer aos profissionais das Escolas Estaduais Antônio Joaquim de Moura Andrade, Austrílio Capilé Castro, Marechal Rondon e Padre Anchieta, o curso de formação ATAC I (Ambientes Tecnológicos de Aprendizagem Colaborativa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 Específic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Melhorar o contato dos professores regentes com as tecnologi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Contribuir com a formação e o conhecimento dos professores das escol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Apresentar as diversas ferramentas que compõem o curso ATAC – 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Propor a realização de atividades usando as web tecnologias e ferramentas do Window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00640" y="1097640"/>
            <a:ext cx="7833960" cy="6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1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presentação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Movie Maker (criação e edição de vídeos a partir do aplicativo do Window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Youtu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Fábio e Sôn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ovana e Ana Patríc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2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owerPoint (criação de slides a partir do aplicativo do Window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thorstream (publicação do slide na web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Fábio e Sôn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sele e Miche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3º 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spaces (criação da página do professor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Euzébio e Valér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Ana Patrícia, Gisele e Miche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4º 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Wikispaces (construção e manutenção da pági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espertino: Euzébio e Valé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oturno: Ana Patrícia, Gisele e Miche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8:01:44Z</dcterms:created>
  <dc:creator>use</dc:creator>
  <dc:description/>
  <dc:language>en-US</dc:language>
  <cp:lastModifiedBy>use</cp:lastModifiedBy>
  <dcterms:modified xsi:type="dcterms:W3CDTF">2009-07-10T19:41:06Z</dcterms:modified>
  <cp:revision>2</cp:revision>
  <dc:subject/>
  <dc:title>CURSO ATAC I</dc:title>
</cp:coreProperties>
</file>